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B486-C2C1-434A-95A9-BBB895558E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1955-E0C1-40A7-9A8B-067A248979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8C6-83E9-444B-9C3E-9327675B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F9E-AA48-4DA9-BD5F-B4806529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AF0-A2FE-472D-88C4-8B294B87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27D-B315-4875-93F0-4401E1BB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1FD69-D422-4E29-AF92-BADEFFC9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24CA6-5B7F-4B49-A636-3AE207EF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A630C-C03E-4C5E-A4D1-571CB78E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5BA5E-614C-4858-B483-48763426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2E675-EDC0-4EFE-9B7D-92A2670A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0DE90-6AF8-4C15-8AE2-3172B744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051F6-87F1-4630-BE27-EF996B60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6A1-32A3-4818-AFCA-52B93C1E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6F2EF-7D9F-4665-9DC8-18DD55CD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925D8-1033-4035-9DFB-A90EF408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2001D-451D-475F-9D2A-7E576CAF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5479E-1E3B-4EFA-88B9-2B32D362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E57A5-20DA-4C51-88B7-5E58AED9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3D5F-E053-454C-AD1E-D274C690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84363-A683-4B49-ABE3-558A83F7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D579-0DE5-48DD-8B20-0A3B5BC3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041C-E540-46E7-B574-8FD7EF10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D6F49-C04A-47B5-B449-9712F6BD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316-44AD-4DF8-99D1-D8E3EB0B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4BFC-D232-4B2C-AA17-21D1AC4A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ECC9-198D-4ACB-BE4F-D18C6A49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20D0-FB48-4F9C-AAEB-B68CA77F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4F80-7547-4BD7-9F01-1037A55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93F7-4693-4DDA-BC23-F4F2FD7D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EE076-A212-4859-A177-84396C5B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65C3-3F63-4D1B-976A-020F880A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9507D-204F-4DC3-B082-7A44B854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A4BD-974C-47B7-8F67-A993EBDE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B9D98-6E56-4626-923A-0EFF2517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BCE-8311-4678-BBF1-4478E310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0DA6C-A939-47D7-BD34-21AC8335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3ED05-2320-43AA-8240-6FD0D3A2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76656-59E2-4EF2-AEB7-BE7B397C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A88F3-544F-4BB7-B955-7B6318B8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F10DE-4468-479E-85E3-B0BF702E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0DB1-7B07-4104-AEF0-46C69871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B6B3D-6082-4F82-8162-E26505BF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490FE-1C6E-42E0-8FF8-81B995B8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2D567-A0DC-46E7-8896-94B7F2E3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70219-EDB3-4DAA-9D77-D5614D00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13E-F241-48C9-A0F5-677895F3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68E83-7F09-4800-A77F-28D6B327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E43B5-14C3-49A9-B614-80C62A14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34C86-1059-405D-B3D2-4D343B80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BC698-E699-4649-B334-D9951E0C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AACDC-FEA7-4AA4-9E0A-82E8975E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EECF4-C184-4078-AF48-7707330E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31299-7240-418B-AD1C-33DFA0C1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B27CC-7FA3-4CA2-ABEB-EF6C4CF0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DB1C5-ED80-473F-B5D6-633029D5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644B1-2130-41EA-AA76-6E9BE463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2FC-18DA-4F79-B1ED-597074AC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0EB49-E91B-4A24-A60D-B6974182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34500-DD6E-494C-8E16-070E8BDF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00259-8A34-48FA-BA59-C8B69947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F9BED-117C-4CB0-81DE-618F2EBC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1E3DB-68BC-4630-86A8-1856B834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001BF-3C25-4A5D-AB8A-0B76967C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58FF3-BC08-4F57-9D39-E74CE03B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875C1-9CAB-4AD5-A46D-C93635DB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756A8-62C8-48BB-8FA7-755B2F9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05460-EE6B-4BA6-8104-F2D09F15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6EE-A628-42FE-BF36-5BF0585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63DFA-1AAF-4D87-A7EC-4B1270EF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9CF4C-6B82-432D-B33D-4A3C29A9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4FB50-5315-4424-B60A-6F63D656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82FE5-257F-41F3-AF07-653D7FB2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7CDA8-A3FB-46CA-B5E7-48BD34FE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DE50F-170F-4651-8A4D-3196AF35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C8436-F172-4765-80A1-41CBD3C8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43766-33C3-4E99-A80D-09FBEB29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B96FF-FD9D-4B72-9ACF-5A21E55F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6805-9EFB-47FC-8696-A5D65DBC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41D-C90C-4027-B895-181BFAC3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5DB20-A3D2-4920-B62C-A5224337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AE61E-DD80-478A-83A4-15CC5BB6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F827A-11B8-4385-8E14-FED752AB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373AB-30AF-4F21-AB4A-7FD318F2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FA596-D4D0-4A13-ADAF-7E49FE22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262FB-84C9-4607-A024-CAC4FBAE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B4C3D-FDC0-47EF-A8B5-A8513AE2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7FB7B-8227-4265-92A5-2F33E206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81865-CE86-4CD2-B321-6A101764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08CD7-E319-4E20-A323-61B359E7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37B-6D7D-4043-93B9-AAE5B0C6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E0B30-C67E-4DD7-9026-3C3A8909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29D8B-EFAD-4B96-920D-204F98EC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CF8F1-FB86-4269-A707-1B4712E2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D8D8D-9EB8-4255-89DA-AA1B8167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C67CF-EBFA-451E-A3A4-1099412F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C7F6F-E4D3-482D-829B-F73CBE18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EA2CD-F82B-4F4E-B051-D9C240AA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733E-8895-42A1-8B45-DA5DEB94F5D9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3003-0453-4298-B621-4A2B2A1A153D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A62-6B2C-4EE4-8205-3ABEDA1EB93B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AD23-4C23-42CC-9033-9B7834573D9A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9A66-DC38-48AD-9C4E-E8BCFD6CE4E5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0888-FD80-46D5-BCC4-C928E5547EB0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305E-E591-4500-B2E8-65CA9A281ABB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95D2-33A8-4602-9683-9E07AAACE16D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375d3a"/>
                </a:solidFill>
                <a:latin typeface="Calisto MT"/>
              </a:rPr>
              <a:t>Unit 4 – Partons en voyag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66320" y="28954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sto MT"/>
              </a:rPr>
              <a:t>Leçon 3 A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75d3a"/>
                </a:solidFill>
                <a:latin typeface="Calisto MT"/>
              </a:rPr>
              <a:t>Les prépositions devant les noms de villes  et de pays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5000"/>
          </a:bodyPr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 vous!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renez une feuille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aites 2 colonnes: Masc – Fem – Plur-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ous dis un nom de pays et vous devez le mettre dans la bonne colon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0520" y="1980720"/>
            <a:ext cx="403884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Itali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spag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ranc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apon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hi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hilippines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0" name="Rectangle 3"/>
          <p:cNvSpPr/>
          <p:nvPr/>
        </p:nvSpPr>
        <p:spPr>
          <a:xfrm flipH="1">
            <a:off x="4571280" y="1981080"/>
            <a:ext cx="388620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a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Bré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Ken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57200" y="1905120"/>
          <a:ext cx="8229600" cy="5029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97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t AVEC 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80880" y="1371600"/>
          <a:ext cx="8534520" cy="55627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32511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5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xceptions 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2120" y="2286000"/>
          <a:ext cx="7010280" cy="285588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9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ex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4000"/>
          </a:bodyPr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Où est –ce que je vais? Je vous dis la ville, vous devez me dire le pays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Vous devez complétez la phrase avec la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bonne préposition 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our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ville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uis, trouvez de quel pays il s’agit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Complétez avec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bonne préposition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renez un tableau et écrivez la préposition qui manque sur le tableau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odè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images-1.jpeg"/>
          <p:cNvPicPr/>
          <p:nvPr/>
        </p:nvPicPr>
        <p:blipFill>
          <a:blip r:embed="rId1"/>
          <a:stretch/>
        </p:blipFill>
        <p:spPr>
          <a:xfrm>
            <a:off x="6629400" y="1676520"/>
            <a:ext cx="1616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0880" y="1981080"/>
            <a:ext cx="8102880" cy="41450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Rappel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adrid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p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9" descr="images-2.jpeg"/>
          <p:cNvPicPr/>
          <p:nvPr/>
        </p:nvPicPr>
        <p:blipFill>
          <a:blip r:embed="rId1"/>
          <a:stretch/>
        </p:blipFill>
        <p:spPr>
          <a:xfrm>
            <a:off x="5638680" y="1523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Québec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8" descr="DownloadedFile-1.jpeg"/>
          <p:cNvPicPr/>
          <p:nvPr/>
        </p:nvPicPr>
        <p:blipFill>
          <a:blip r:embed="rId1"/>
          <a:stretch/>
        </p:blipFill>
        <p:spPr>
          <a:xfrm>
            <a:off x="5638680" y="1600200"/>
            <a:ext cx="27496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4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Rom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Ita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images-1.jpeg"/>
          <p:cNvPicPr/>
          <p:nvPr/>
        </p:nvPicPr>
        <p:blipFill>
          <a:blip r:embed="rId1"/>
          <a:stretch/>
        </p:blipFill>
        <p:spPr>
          <a:xfrm>
            <a:off x="5257800" y="1219320"/>
            <a:ext cx="3033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5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oscou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8" descr="images-4.jpeg"/>
          <p:cNvPicPr/>
          <p:nvPr/>
        </p:nvPicPr>
        <p:blipFill>
          <a:blip r:embed="rId1"/>
          <a:stretch/>
        </p:blipFill>
        <p:spPr>
          <a:xfrm>
            <a:off x="5257800" y="114300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6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Genèv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images-3.jpeg"/>
          <p:cNvPicPr/>
          <p:nvPr/>
        </p:nvPicPr>
        <p:blipFill>
          <a:blip r:embed="rId1"/>
          <a:stretch/>
        </p:blipFill>
        <p:spPr>
          <a:xfrm>
            <a:off x="5562720" y="1752480"/>
            <a:ext cx="26906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7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Tokyo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images-5.jpeg"/>
          <p:cNvPicPr/>
          <p:nvPr/>
        </p:nvPicPr>
        <p:blipFill>
          <a:blip r:embed="rId1"/>
          <a:stretch/>
        </p:blipFill>
        <p:spPr>
          <a:xfrm>
            <a:off x="5715000" y="1676520"/>
            <a:ext cx="25430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8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bidja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images-1.jpeg"/>
          <p:cNvPicPr/>
          <p:nvPr/>
        </p:nvPicPr>
        <p:blipFill>
          <a:blip r:embed="rId1"/>
          <a:stretch/>
        </p:blipFill>
        <p:spPr>
          <a:xfrm>
            <a:off x="5181480" y="1676520"/>
            <a:ext cx="3114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9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tlanta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ats-U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8" descr="images.jpeg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Berli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1" descr="images-2.jpeg"/>
          <p:cNvPicPr/>
          <p:nvPr/>
        </p:nvPicPr>
        <p:blipFill>
          <a:blip r:embed="rId1"/>
          <a:stretch/>
        </p:blipFill>
        <p:spPr>
          <a:xfrm>
            <a:off x="5181480" y="12193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exico City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x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"/>
          <p:cNvSpPr/>
          <p:nvPr/>
        </p:nvSpPr>
        <p:spPr>
          <a:xfrm>
            <a:off x="274320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8" descr="images-3.jpeg"/>
          <p:cNvPicPr/>
          <p:nvPr/>
        </p:nvPicPr>
        <p:blipFill>
          <a:blip r:embed="rId1"/>
          <a:stretch/>
        </p:blipFill>
        <p:spPr>
          <a:xfrm>
            <a:off x="5880240" y="1060560"/>
            <a:ext cx="2514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980720"/>
            <a:ext cx="8102880" cy="34290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7000"/>
          </a:bodyPr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Questions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sto MT"/>
              </a:rPr>
              <a:t>Regardez les prépositions devant Paris et France? 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Devant un nom de villes (pour dire où on est, ou où on va, on doit utiliser)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À + nom de la vil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x. Nous habitons _____   Fairfield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4" name="Picture 3" descr="images.jpeg"/>
          <p:cNvPicPr/>
          <p:nvPr/>
        </p:nvPicPr>
        <p:blipFill>
          <a:blip r:embed="rId1"/>
          <a:stretch/>
        </p:blipFill>
        <p:spPr>
          <a:xfrm>
            <a:off x="2971800" y="304812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4574880" y="1905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main, nous allons _____   New York 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503208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DownloadedFile.jpeg"/>
          <p:cNvPicPr/>
          <p:nvPr/>
        </p:nvPicPr>
        <p:blipFill>
          <a:blip r:embed="rId1"/>
          <a:stretch/>
        </p:blipFill>
        <p:spPr>
          <a:xfrm>
            <a:off x="2514600" y="320040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our les vacances, nous allons _____   Miami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670860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DownloadedFile-1.jpeg"/>
          <p:cNvPicPr/>
          <p:nvPr/>
        </p:nvPicPr>
        <p:blipFill>
          <a:blip r:embed="rId1"/>
          <a:stretch/>
        </p:blipFill>
        <p:spPr>
          <a:xfrm>
            <a:off x="2401920" y="3173400"/>
            <a:ext cx="32130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2743200"/>
          <a:ext cx="7848720" cy="1951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2743200"/>
          <a:ext cx="7848720" cy="19350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ETATS-U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1:55:37Z</dcterms:created>
  <dc:creator>Mr. Smith</dc:creator>
  <dc:description/>
  <dc:language>en-US</dc:language>
  <cp:lastModifiedBy>GREBERT,VIVIANE</cp:lastModifiedBy>
  <dcterms:modified xsi:type="dcterms:W3CDTF">2017-03-14T18:16:08Z</dcterms:modified>
  <cp:revision>102</cp:revision>
  <dc:subject/>
  <dc:title>Allez, viens! – Level 2</dc:title>
</cp:coreProperties>
</file>